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A956-3D77-40B0-8A1B-E1FA9C207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CA38-6266-4EC0-96A2-DBED0F807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59EB-57CC-4CE6-AC52-2C890E46A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587B-7182-4174-8CB8-979F8538F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6D6F-642B-408A-98DD-A4227795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7F8D-BD1C-4704-AD21-8B1DCAD8E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3167-FF76-4F22-92C2-BC33D1E38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382F-4BC2-4F28-9DE3-84B757DBC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1DBE-0553-4CDB-9E8D-CAFE217AC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587A-F5D4-4331-AAF0-C6AADBED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0CA4-B21B-45D3-AE5C-D98B9265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6A27-AD27-4EA4-BC7E-5716F929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9429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ction XIII.C, page 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R7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4857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878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5943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XIIIC.1.  Flow chart for commonly used SAMMY  mo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47760" y="914400"/>
            <a:ext cx="468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46680" y="1371600"/>
            <a:ext cx="420120" cy="30708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46320" y="1828800"/>
            <a:ext cx="4107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2"/>
            <a:endCxn id="43" idx="0"/>
          </p:cNvCxnSpPr>
          <p:nvPr/>
        </p:nvCxnSpPr>
        <p:spPr>
          <a:xfrm flipH="1">
            <a:off x="2356560" y="1221480"/>
            <a:ext cx="25920" cy="150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" name=""/>
          <p:cNvCxnSpPr>
            <a:stCxn id="43" idx="2"/>
            <a:endCxn id="44" idx="0"/>
          </p:cNvCxnSpPr>
          <p:nvPr/>
        </p:nvCxnSpPr>
        <p:spPr>
          <a:xfrm flipH="1">
            <a:off x="2351520" y="1678680"/>
            <a:ext cx="5400" cy="150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"/>
          <p:cNvSpPr/>
          <p:nvPr/>
        </p:nvSpPr>
        <p:spPr>
          <a:xfrm>
            <a:off x="2147040" y="2286000"/>
            <a:ext cx="4093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4" idx="2"/>
            <a:endCxn id="47" idx="0"/>
          </p:cNvCxnSpPr>
          <p:nvPr/>
        </p:nvCxnSpPr>
        <p:spPr>
          <a:xfrm>
            <a:off x="2351520" y="2135880"/>
            <a:ext cx="360" cy="150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7" idx="2"/>
            <a:endCxn id="50" idx="0"/>
          </p:cNvCxnSpPr>
          <p:nvPr/>
        </p:nvCxnSpPr>
        <p:spPr>
          <a:xfrm>
            <a:off x="2351520" y="2593080"/>
            <a:ext cx="18720" cy="150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1994040" y="2743200"/>
            <a:ext cx="75204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o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147040" y="3200400"/>
            <a:ext cx="4003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47040" y="3657600"/>
            <a:ext cx="4003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50" idx="2"/>
            <a:endCxn id="51" idx="0"/>
          </p:cNvCxnSpPr>
          <p:nvPr/>
        </p:nvCxnSpPr>
        <p:spPr>
          <a:xfrm flipH="1">
            <a:off x="2347200" y="3050280"/>
            <a:ext cx="23040" cy="150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51" idx="2"/>
            <a:endCxn id="52" idx="0"/>
          </p:cNvCxnSpPr>
          <p:nvPr/>
        </p:nvCxnSpPr>
        <p:spPr>
          <a:xfrm>
            <a:off x="2347200" y="3507480"/>
            <a:ext cx="360" cy="150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1686960" y="4114800"/>
            <a:ext cx="125964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clq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xct </a:t>
            </a: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mlb c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2" idx="2"/>
            <a:endCxn id="55" idx="0"/>
          </p:cNvCxnSpPr>
          <p:nvPr/>
        </p:nvCxnSpPr>
        <p:spPr>
          <a:xfrm flipH="1">
            <a:off x="2316600" y="3964680"/>
            <a:ext cx="30960" cy="150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1609920" y="5029200"/>
            <a:ext cx="1409040" cy="30708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gm</a:t>
            </a: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 clm dop db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71080" y="5486400"/>
            <a:ext cx="459720" cy="30708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57" idx="2"/>
            <a:endCxn id="58" idx="0"/>
          </p:cNvCxnSpPr>
          <p:nvPr/>
        </p:nvCxnSpPr>
        <p:spPr>
          <a:xfrm flipH="1">
            <a:off x="2300760" y="5336280"/>
            <a:ext cx="14040" cy="150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1589760" y="5943600"/>
            <a:ext cx="1444320" cy="30708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sl orr rpi</a:t>
            </a: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 dex r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58" idx="2"/>
            <a:endCxn id="60" idx="0"/>
          </p:cNvCxnSpPr>
          <p:nvPr/>
        </p:nvCxnSpPr>
        <p:spPr>
          <a:xfrm>
            <a:off x="2300760" y="5793480"/>
            <a:ext cx="11520" cy="150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60" idx="2"/>
            <a:endCxn id="63" idx="0"/>
          </p:cNvCxnSpPr>
          <p:nvPr/>
        </p:nvCxnSpPr>
        <p:spPr>
          <a:xfrm flipH="1">
            <a:off x="2309400" y="6250680"/>
            <a:ext cx="2880" cy="150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 flipH="1">
            <a:off x="1763280" y="7315200"/>
            <a:ext cx="11253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pv ipq</a:t>
            </a: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 mp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46680" y="7848720"/>
            <a:ext cx="3805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7" idx="2"/>
            <a:endCxn id="64" idx="0"/>
          </p:cNvCxnSpPr>
          <p:nvPr/>
        </p:nvCxnSpPr>
        <p:spPr>
          <a:xfrm>
            <a:off x="2286000" y="7165080"/>
            <a:ext cx="40320" cy="150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4" idx="2"/>
            <a:endCxn id="65" idx="0"/>
          </p:cNvCxnSpPr>
          <p:nvPr/>
        </p:nvCxnSpPr>
        <p:spPr>
          <a:xfrm>
            <a:off x="2325960" y="7622280"/>
            <a:ext cx="11160" cy="226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384920" y="7848720"/>
            <a:ext cx="4399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5" idx="1"/>
            <a:endCxn id="69" idx="3"/>
          </p:cNvCxnSpPr>
          <p:nvPr/>
        </p:nvCxnSpPr>
        <p:spPr>
          <a:xfrm flipH="1">
            <a:off x="1824840" y="8002080"/>
            <a:ext cx="322200" cy="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55" idx="2"/>
            <a:endCxn id="72" idx="0"/>
          </p:cNvCxnSpPr>
          <p:nvPr/>
        </p:nvCxnSpPr>
        <p:spPr>
          <a:xfrm flipH="1">
            <a:off x="2316240" y="4421880"/>
            <a:ext cx="720" cy="150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5" idx="3"/>
            <a:endCxn id="52" idx="3"/>
          </p:cNvCxnSpPr>
          <p:nvPr/>
        </p:nvCxnSpPr>
        <p:spPr>
          <a:xfrm flipV="1">
            <a:off x="2527200" y="3810960"/>
            <a:ext cx="20520" cy="4191480"/>
          </a:xfrm>
          <a:prstGeom prst="bentConnector3">
            <a:avLst>
              <a:gd name="adj1" fmla="val 1291071"/>
            </a:avLst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74" name=""/>
          <p:cNvCxnSpPr>
            <a:stCxn id="69" idx="1"/>
            <a:endCxn id="44" idx="1"/>
          </p:cNvCxnSpPr>
          <p:nvPr/>
        </p:nvCxnSpPr>
        <p:spPr>
          <a:xfrm flipH="1" rot="10800000">
            <a:off x="1384560" y="1982160"/>
            <a:ext cx="761760" cy="6020280"/>
          </a:xfrm>
          <a:prstGeom prst="bentConnector3">
            <a:avLst>
              <a:gd name="adj1" fmla="val -31489"/>
            </a:avLst>
          </a:prstGeom>
          <a:ln w="9360">
            <a:solidFill>
              <a:srgbClr val="0000ff"/>
            </a:solidFill>
            <a:prstDash val="dash"/>
            <a:miter/>
            <a:tailEnd len="med" type="triangle" w="med"/>
          </a:ln>
        </p:spPr>
      </p:cxnSp>
      <p:sp>
        <p:nvSpPr>
          <p:cNvPr id="72" name=""/>
          <p:cNvSpPr/>
          <p:nvPr/>
        </p:nvSpPr>
        <p:spPr>
          <a:xfrm>
            <a:off x="2096280" y="4572000"/>
            <a:ext cx="439920" cy="30708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"/>
          <p:cNvCxnSpPr>
            <a:stCxn id="72" idx="2"/>
            <a:endCxn id="57" idx="0"/>
          </p:cNvCxnSpPr>
          <p:nvPr/>
        </p:nvCxnSpPr>
        <p:spPr>
          <a:xfrm flipH="1">
            <a:off x="2314440" y="4879080"/>
            <a:ext cx="2160" cy="150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981880" y="914400"/>
            <a:ext cx="358920" cy="307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f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92440" y="914400"/>
            <a:ext cx="409320" cy="307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a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77880" y="914400"/>
            <a:ext cx="537480" cy="307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mp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962600" y="914400"/>
            <a:ext cx="340920" cy="307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f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"/>
          <p:cNvCxnSpPr>
            <a:stCxn id="42" idx="3"/>
            <a:endCxn id="76" idx="1"/>
          </p:cNvCxnSpPr>
          <p:nvPr/>
        </p:nvCxnSpPr>
        <p:spPr>
          <a:xfrm>
            <a:off x="2616480" y="1067760"/>
            <a:ext cx="365760" cy="360"/>
          </a:xfrm>
          <a:prstGeom prst="straightConnector1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6" idx="3"/>
            <a:endCxn id="77" idx="1"/>
          </p:cNvCxnSpPr>
          <p:nvPr/>
        </p:nvCxnSpPr>
        <p:spPr>
          <a:xfrm>
            <a:off x="3340800" y="1067760"/>
            <a:ext cx="252000" cy="360"/>
          </a:xfrm>
          <a:prstGeom prst="straightConnector1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7" idx="3"/>
            <a:endCxn id="78" idx="1"/>
          </p:cNvCxnSpPr>
          <p:nvPr/>
        </p:nvCxnSpPr>
        <p:spPr>
          <a:xfrm>
            <a:off x="4001760" y="1067760"/>
            <a:ext cx="276480" cy="360"/>
          </a:xfrm>
          <a:prstGeom prst="straightConnector1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78" idx="3"/>
            <a:endCxn id="79" idx="1"/>
          </p:cNvCxnSpPr>
          <p:nvPr/>
        </p:nvCxnSpPr>
        <p:spPr>
          <a:xfrm>
            <a:off x="4815360" y="1067760"/>
            <a:ext cx="147600" cy="360"/>
          </a:xfrm>
          <a:prstGeom prst="straightConnector1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84" name=""/>
          <p:cNvCxnSpPr>
            <a:stCxn id="79" idx="2"/>
            <a:endCxn id="77" idx="2"/>
          </p:cNvCxnSpPr>
          <p:nvPr/>
        </p:nvCxnSpPr>
        <p:spPr>
          <a:xfrm rot="16200000">
            <a:off x="4464720" y="553320"/>
            <a:ext cx="360" cy="1336320"/>
          </a:xfrm>
          <a:prstGeom prst="bentConnector3">
            <a:avLst>
              <a:gd name="adj1" fmla="val 65700000"/>
            </a:avLst>
          </a:prstGeom>
          <a:ln w="19080">
            <a:solidFill>
              <a:srgbClr val="333399"/>
            </a:solidFill>
            <a:prstDash val="dash"/>
            <a:miter/>
            <a:tailEnd len="med" type="triangle" w="med"/>
          </a:ln>
        </p:spPr>
      </p:cxnSp>
      <p:sp>
        <p:nvSpPr>
          <p:cNvPr id="85" name=""/>
          <p:cNvSpPr/>
          <p:nvPr/>
        </p:nvSpPr>
        <p:spPr>
          <a:xfrm>
            <a:off x="3435480" y="2057400"/>
            <a:ext cx="526680" cy="30708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wy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120560" y="2057400"/>
            <a:ext cx="537480" cy="30708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mp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5640" y="2057400"/>
            <a:ext cx="380520" cy="30708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f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39520" y="2057400"/>
            <a:ext cx="439920" cy="30708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stCxn id="50" idx="3"/>
            <a:endCxn id="85" idx="1"/>
          </p:cNvCxnSpPr>
          <p:nvPr/>
        </p:nvCxnSpPr>
        <p:spPr>
          <a:xfrm flipV="1">
            <a:off x="2746080" y="2210760"/>
            <a:ext cx="689760" cy="686160"/>
          </a:xfrm>
          <a:prstGeom prst="straightConnector1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85" idx="3"/>
            <a:endCxn id="86" idx="1"/>
          </p:cNvCxnSpPr>
          <p:nvPr/>
        </p:nvCxnSpPr>
        <p:spPr>
          <a:xfrm>
            <a:off x="3962160" y="2210760"/>
            <a:ext cx="158760" cy="360"/>
          </a:xfrm>
          <a:prstGeom prst="straightConnector1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86" idx="3"/>
            <a:endCxn id="87" idx="1"/>
          </p:cNvCxnSpPr>
          <p:nvPr/>
        </p:nvCxnSpPr>
        <p:spPr>
          <a:xfrm>
            <a:off x="4658040" y="2210760"/>
            <a:ext cx="147960" cy="360"/>
          </a:xfrm>
          <a:prstGeom prst="straightConnector1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7" idx="3"/>
            <a:endCxn id="88" idx="1"/>
          </p:cNvCxnSpPr>
          <p:nvPr/>
        </p:nvCxnSpPr>
        <p:spPr>
          <a:xfrm>
            <a:off x="5186160" y="2210760"/>
            <a:ext cx="153720" cy="360"/>
          </a:xfrm>
          <a:prstGeom prst="bentConnector2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3666240" y="5638680"/>
            <a:ext cx="1123920" cy="30708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avg grp mp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67" idx="3"/>
            <a:endCxn id="93" idx="1"/>
          </p:cNvCxnSpPr>
          <p:nvPr/>
        </p:nvCxnSpPr>
        <p:spPr>
          <a:xfrm flipV="1">
            <a:off x="2501280" y="5792040"/>
            <a:ext cx="1165320" cy="1219680"/>
          </a:xfrm>
          <a:prstGeom prst="straightConnector1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95" name=""/>
          <p:cNvSpPr/>
          <p:nvPr/>
        </p:nvSpPr>
        <p:spPr>
          <a:xfrm>
            <a:off x="3591720" y="7315200"/>
            <a:ext cx="488520" cy="307080"/>
          </a:xfrm>
          <a:prstGeom prst="rect">
            <a:avLst/>
          </a:prstGeom>
          <a:noFill/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imes New Roman"/>
              </a:rPr>
              <a:t>yw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93000" y="7304040"/>
            <a:ext cx="439920" cy="307080"/>
          </a:xfrm>
          <a:prstGeom prst="rect">
            <a:avLst/>
          </a:prstGeom>
          <a:noFill/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imes New Roman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67" idx="3"/>
            <a:endCxn id="95" idx="1"/>
          </p:cNvCxnSpPr>
          <p:nvPr/>
        </p:nvCxnSpPr>
        <p:spPr>
          <a:xfrm>
            <a:off x="2501280" y="7011360"/>
            <a:ext cx="1090800" cy="457560"/>
          </a:xfrm>
          <a:prstGeom prst="straightConnector1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95" idx="3"/>
            <a:endCxn id="96" idx="1"/>
          </p:cNvCxnSpPr>
          <p:nvPr/>
        </p:nvCxnSpPr>
        <p:spPr>
          <a:xfrm flipV="1">
            <a:off x="4080240" y="7457400"/>
            <a:ext cx="213120" cy="11520"/>
          </a:xfrm>
          <a:prstGeom prst="straightConnector1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</p:cxnSp>
      <p:sp>
        <p:nvSpPr>
          <p:cNvPr id="99" name=""/>
          <p:cNvSpPr/>
          <p:nvPr/>
        </p:nvSpPr>
        <p:spPr>
          <a:xfrm>
            <a:off x="3668400" y="6248520"/>
            <a:ext cx="478080" cy="307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c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67" idx="3"/>
            <a:endCxn id="99" idx="1"/>
          </p:cNvCxnSpPr>
          <p:nvPr/>
        </p:nvCxnSpPr>
        <p:spPr>
          <a:xfrm flipV="1">
            <a:off x="2501280" y="6401880"/>
            <a:ext cx="1167480" cy="609840"/>
          </a:xfrm>
          <a:prstGeom prst="straightConnector1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</p:cxnSp>
      <p:sp>
        <p:nvSpPr>
          <p:cNvPr id="63" name=""/>
          <p:cNvSpPr/>
          <p:nvPr/>
        </p:nvSpPr>
        <p:spPr>
          <a:xfrm>
            <a:off x="2124000" y="6400800"/>
            <a:ext cx="3711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63" idx="2"/>
            <a:endCxn id="67" idx="0"/>
          </p:cNvCxnSpPr>
          <p:nvPr/>
        </p:nvCxnSpPr>
        <p:spPr>
          <a:xfrm flipH="1">
            <a:off x="2286000" y="6707880"/>
            <a:ext cx="23760" cy="150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2748960" y="1828800"/>
            <a:ext cx="409320" cy="30708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imes New Roman"/>
              </a:rPr>
              <a:t>fd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44" idx="3"/>
            <a:endCxn id="102" idx="1"/>
          </p:cNvCxnSpPr>
          <p:nvPr/>
        </p:nvCxnSpPr>
        <p:spPr>
          <a:xfrm>
            <a:off x="2557080" y="1982160"/>
            <a:ext cx="192240" cy="360"/>
          </a:xfrm>
          <a:prstGeom prst="straightConnector1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3205440" y="3200400"/>
            <a:ext cx="420120" cy="3070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n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"/>
          <p:cNvCxnSpPr>
            <a:stCxn id="50" idx="3"/>
            <a:endCxn id="104" idx="1"/>
          </p:cNvCxnSpPr>
          <p:nvPr/>
        </p:nvCxnSpPr>
        <p:spPr>
          <a:xfrm>
            <a:off x="2746080" y="2896560"/>
            <a:ext cx="459720" cy="457560"/>
          </a:xfrm>
          <a:prstGeom prst="straightConnector1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3342960" y="2754360"/>
            <a:ext cx="398520" cy="3070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r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50" idx="3"/>
            <a:endCxn id="106" idx="1"/>
          </p:cNvCxnSpPr>
          <p:nvPr/>
        </p:nvCxnSpPr>
        <p:spPr>
          <a:xfrm>
            <a:off x="2746080" y="2896560"/>
            <a:ext cx="597240" cy="1152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>
            <a:off x="4119840" y="2590920"/>
            <a:ext cx="410760" cy="30708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nt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6" idx="3"/>
            <a:endCxn id="108" idx="1"/>
          </p:cNvCxnSpPr>
          <p:nvPr/>
        </p:nvCxnSpPr>
        <p:spPr>
          <a:xfrm flipV="1">
            <a:off x="3741480" y="2744280"/>
            <a:ext cx="378720" cy="163800"/>
          </a:xfrm>
          <a:prstGeom prst="straightConnector1">
            <a:avLst/>
          </a:prstGeom>
          <a:ln w="9360">
            <a:solidFill>
              <a:srgbClr val="660033"/>
            </a:solidFill>
            <a:miter/>
            <a:tailEnd len="med" type="triangle" w="med"/>
          </a:ln>
        </p:spPr>
      </p:cxnSp>
      <p:sp>
        <p:nvSpPr>
          <p:cNvPr id="110" name=""/>
          <p:cNvSpPr/>
          <p:nvPr/>
        </p:nvSpPr>
        <p:spPr>
          <a:xfrm>
            <a:off x="3891960" y="3048120"/>
            <a:ext cx="537480" cy="30708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mx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6" idx="3"/>
            <a:endCxn id="110" idx="1"/>
          </p:cNvCxnSpPr>
          <p:nvPr/>
        </p:nvCxnSpPr>
        <p:spPr>
          <a:xfrm>
            <a:off x="3741480" y="2907720"/>
            <a:ext cx="150840" cy="294120"/>
          </a:xfrm>
          <a:prstGeom prst="straightConnector1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1513440" y="3211560"/>
            <a:ext cx="400320" cy="30708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d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"/>
          <p:cNvCxnSpPr>
            <a:stCxn id="51" idx="1"/>
            <a:endCxn id="112" idx="3"/>
          </p:cNvCxnSpPr>
          <p:nvPr/>
        </p:nvCxnSpPr>
        <p:spPr>
          <a:xfrm flipH="1">
            <a:off x="1913760" y="3353760"/>
            <a:ext cx="233640" cy="11520"/>
          </a:xfrm>
          <a:prstGeom prst="straightConnector1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3596760" y="6781680"/>
            <a:ext cx="537480" cy="307080"/>
          </a:xfrm>
          <a:prstGeom prst="rect">
            <a:avLst/>
          </a:pr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mx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67" idx="3"/>
            <a:endCxn id="114" idx="1"/>
          </p:cNvCxnSpPr>
          <p:nvPr/>
        </p:nvCxnSpPr>
        <p:spPr>
          <a:xfrm flipV="1">
            <a:off x="2501280" y="6935040"/>
            <a:ext cx="1095840" cy="76680"/>
          </a:xfrm>
          <a:prstGeom prst="straightConnector1">
            <a:avLst/>
          </a:prstGeom>
          <a:ln w="28440">
            <a:solidFill>
              <a:srgbClr val="660066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3129120" y="1371600"/>
            <a:ext cx="380520" cy="307080"/>
          </a:xfrm>
          <a:prstGeom prst="rect">
            <a:avLst/>
          </a:prstGeom>
          <a:noFill/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ff"/>
                </a:solidFill>
                <a:latin typeface="Times New Roman"/>
              </a:rPr>
              <a:t>l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"/>
          <p:cNvCxnSpPr>
            <a:stCxn id="76" idx="2"/>
            <a:endCxn id="116" idx="0"/>
          </p:cNvCxnSpPr>
          <p:nvPr/>
        </p:nvCxnSpPr>
        <p:spPr>
          <a:xfrm>
            <a:off x="3161160" y="1221480"/>
            <a:ext cx="158400" cy="150480"/>
          </a:xfrm>
          <a:prstGeom prst="straightConnector1">
            <a:avLst/>
          </a:prstGeom>
          <a:ln w="9360">
            <a:solidFill>
              <a:srgbClr val="6600ff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2070720" y="6858000"/>
            <a:ext cx="430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q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72BE-929B-4788-8CE9-7C0D5AD2528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5T19:28:06Z</dcterms:created>
  <dc:creator>LARSON2003</dc:creator>
  <dc:description/>
  <dc:language>en-US</dc:language>
  <cp:lastModifiedBy>LARSON2003</cp:lastModifiedBy>
  <dcterms:modified xsi:type="dcterms:W3CDTF">2005-11-22T18:11:40Z</dcterms:modified>
  <cp:revision>13</cp:revision>
  <dc:subject/>
  <dc:title>Flow chart for SAMMY</dc:title>
</cp:coreProperties>
</file>