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C015-8494-4666-9219-4BCFC6B42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F219-F6F0-4FD5-93FB-1E0965048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3361-0057-4144-9273-4B56CF432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3105-4D09-4859-8EAB-589E47422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5321-689A-485A-B7CA-4965D24C1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1B0E-1708-424B-B294-CB62D70B2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F2B1-DBEF-4388-A7C3-2DAA0B1CE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77EF-58FB-44E1-A15F-24F8B7330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FB44-0153-432E-90A5-C72DF6E29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C136-377E-4516-8C04-9CE93C775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729B-4FC2-47AE-A2BB-82EF207A9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5FC3-C313-4BF6-A44B-F9F9B44AF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22536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9476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8180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247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0BC7-CB3D-43B3-8F11-A345CBA27B2C}" type="slidenum">
              <a:rPr b="0" lang="en-US" sz="1000" spc="-1" strike="noStrike">
                <a:solidFill>
                  <a:srgbClr val="00673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80240" y="6224760"/>
            <a:ext cx="1238400" cy="349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3880" y="6132600"/>
            <a:ext cx="34221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73e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algn="ctr">
              <a:spcBef>
                <a:spcPts val="550"/>
              </a:spcBef>
              <a:spcAft>
                <a:spcPts val="275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499"/>
              </a:spcBef>
              <a:spcAft>
                <a:spcPts val="249"/>
              </a:spcAft>
              <a:buClr>
                <a:srgbClr val="00673e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3520" algn="ctr">
              <a:spcBef>
                <a:spcPts val="451"/>
              </a:spcBef>
              <a:spcAft>
                <a:spcPts val="224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85880" y="232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1240" y="3381480"/>
            <a:ext cx="352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7208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24800" y="3216240"/>
            <a:ext cx="136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2080" y="3560760"/>
            <a:ext cx="118800" cy="11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8040" y="3560760"/>
            <a:ext cx="914400" cy="11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73880" y="3218040"/>
            <a:ext cx="896760" cy="896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2004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2360" y="3201840"/>
            <a:ext cx="897120" cy="89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0896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08960" y="3216240"/>
            <a:ext cx="936720" cy="8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7960" y="334656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4664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95520"/>
            <a:ext cx="299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52680"/>
            <a:ext cx="0" cy="3812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6775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8208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0DDB-3DCD-4FC8-8714-0B34D8E785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48:43Z</dcterms:created>
  <dc:creator>LARSON2003</dc:creator>
  <dc:description/>
  <dc:language>en-US</dc:language>
  <cp:lastModifiedBy>LARSON2003</cp:lastModifiedBy>
  <dcterms:modified xsi:type="dcterms:W3CDTF">2006-01-30T20:19:00Z</dcterms:modified>
  <cp:revision>2</cp:revision>
  <dc:subject/>
  <dc:title>Slide 1</dc:title>
</cp:coreProperties>
</file>