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AE2-38F1-4BA6-B1D0-0074CDDA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762-064C-4E69-BD9B-5AF7C85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A85-CECA-452D-A416-18426216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F8D-428D-4AC8-B710-A21C5DDB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FDC-1944-4BDE-8914-B11AE295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680-FC05-4F9F-91A0-BD4889F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5E0-7331-4321-808D-E96E7033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3F3-522B-4F3B-9CC6-26B47B00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CE8-6920-441A-A9F8-ECB3632C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3BC-615F-4C34-8DDF-29DE662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5A1-1C1A-474F-9624-23619FD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C16-F428-4A6B-9CF8-103ED9A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94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tion XIII.C, page 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485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878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XIIIC.1.  Flow chart for commonly used SAMMY 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47760" y="914400"/>
            <a:ext cx="468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680" y="1371600"/>
            <a:ext cx="4201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6320" y="1828800"/>
            <a:ext cx="4107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flipH="1">
            <a:off x="2356560" y="1221480"/>
            <a:ext cx="259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2"/>
            <a:endCxn id="44" idx="0"/>
          </p:cNvCxnSpPr>
          <p:nvPr/>
        </p:nvCxnSpPr>
        <p:spPr>
          <a:xfrm flipH="1">
            <a:off x="2351520" y="1678680"/>
            <a:ext cx="540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2147040" y="2286000"/>
            <a:ext cx="409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4" idx="2"/>
            <a:endCxn id="47" idx="0"/>
          </p:cNvCxnSpPr>
          <p:nvPr/>
        </p:nvCxnSpPr>
        <p:spPr>
          <a:xfrm>
            <a:off x="2351520" y="21358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2"/>
            <a:endCxn id="50" idx="0"/>
          </p:cNvCxnSpPr>
          <p:nvPr/>
        </p:nvCxnSpPr>
        <p:spPr>
          <a:xfrm>
            <a:off x="2351520" y="2593080"/>
            <a:ext cx="18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994040" y="2743200"/>
            <a:ext cx="7520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47040" y="32004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47040" y="3657600"/>
            <a:ext cx="4003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2"/>
            <a:endCxn id="51" idx="0"/>
          </p:cNvCxnSpPr>
          <p:nvPr/>
        </p:nvCxnSpPr>
        <p:spPr>
          <a:xfrm flipH="1">
            <a:off x="2347200" y="3050280"/>
            <a:ext cx="23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0"/>
          </p:cNvCxnSpPr>
          <p:nvPr/>
        </p:nvCxnSpPr>
        <p:spPr>
          <a:xfrm>
            <a:off x="2347200" y="3507480"/>
            <a:ext cx="3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686960" y="4114800"/>
            <a:ext cx="1259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l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ct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mlb 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2" idx="2"/>
            <a:endCxn id="55" idx="0"/>
          </p:cNvCxnSpPr>
          <p:nvPr/>
        </p:nvCxnSpPr>
        <p:spPr>
          <a:xfrm flipH="1">
            <a:off x="2316600" y="3964680"/>
            <a:ext cx="309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609920" y="5029200"/>
            <a:ext cx="140904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gm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clm dop d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1080" y="5486400"/>
            <a:ext cx="4597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2"/>
            <a:endCxn id="58" idx="0"/>
          </p:cNvCxnSpPr>
          <p:nvPr/>
        </p:nvCxnSpPr>
        <p:spPr>
          <a:xfrm flipH="1">
            <a:off x="2300760" y="5336280"/>
            <a:ext cx="1404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589760" y="5943600"/>
            <a:ext cx="14443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l orr rpi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dex r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8" idx="2"/>
            <a:endCxn id="60" idx="0"/>
          </p:cNvCxnSpPr>
          <p:nvPr/>
        </p:nvCxnSpPr>
        <p:spPr>
          <a:xfrm>
            <a:off x="2300760" y="5793480"/>
            <a:ext cx="115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2"/>
            <a:endCxn id="63" idx="0"/>
          </p:cNvCxnSpPr>
          <p:nvPr/>
        </p:nvCxnSpPr>
        <p:spPr>
          <a:xfrm flipH="1">
            <a:off x="2309400" y="6250680"/>
            <a:ext cx="288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 flipH="1">
            <a:off x="1763280" y="7315200"/>
            <a:ext cx="11253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pv ipq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46680" y="7848720"/>
            <a:ext cx="3805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4" idx="0"/>
          </p:cNvCxnSpPr>
          <p:nvPr/>
        </p:nvCxnSpPr>
        <p:spPr>
          <a:xfrm>
            <a:off x="2286000" y="7165080"/>
            <a:ext cx="403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4" idx="2"/>
            <a:endCxn id="65" idx="0"/>
          </p:cNvCxnSpPr>
          <p:nvPr/>
        </p:nvCxnSpPr>
        <p:spPr>
          <a:xfrm>
            <a:off x="2325960" y="7622280"/>
            <a:ext cx="11160" cy="22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384920" y="784872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9" idx="3"/>
          </p:cNvCxnSpPr>
          <p:nvPr/>
        </p:nvCxnSpPr>
        <p:spPr>
          <a:xfrm flipH="1">
            <a:off x="1824840" y="8002080"/>
            <a:ext cx="32220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5" idx="2"/>
            <a:endCxn id="72" idx="0"/>
          </p:cNvCxnSpPr>
          <p:nvPr/>
        </p:nvCxnSpPr>
        <p:spPr>
          <a:xfrm flipH="1">
            <a:off x="2316240" y="4421880"/>
            <a:ext cx="72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3"/>
            <a:endCxn id="52" idx="3"/>
          </p:cNvCxnSpPr>
          <p:nvPr/>
        </p:nvCxnSpPr>
        <p:spPr>
          <a:xfrm flipV="1">
            <a:off x="2527200" y="3810960"/>
            <a:ext cx="20520" cy="4191480"/>
          </a:xfrm>
          <a:prstGeom prst="bentConnector3">
            <a:avLst>
              <a:gd name="adj1" fmla="val 1291071"/>
            </a:avLst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74" name=""/>
          <p:cNvCxnSpPr>
            <a:stCxn id="69" idx="1"/>
            <a:endCxn id="44" idx="1"/>
          </p:cNvCxnSpPr>
          <p:nvPr/>
        </p:nvCxnSpPr>
        <p:spPr>
          <a:xfrm flipH="1" rot="10800000">
            <a:off x="1384560" y="1982160"/>
            <a:ext cx="761760" cy="6020280"/>
          </a:xfrm>
          <a:prstGeom prst="bentConnector3">
            <a:avLst>
              <a:gd name="adj1" fmla="val -31489"/>
            </a:avLst>
          </a:prstGeom>
          <a:ln w="93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096280" y="4572000"/>
            <a:ext cx="43992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2" idx="2"/>
            <a:endCxn id="57" idx="0"/>
          </p:cNvCxnSpPr>
          <p:nvPr/>
        </p:nvCxnSpPr>
        <p:spPr>
          <a:xfrm flipH="1">
            <a:off x="2314440" y="4879080"/>
            <a:ext cx="2160" cy="15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981880" y="914400"/>
            <a:ext cx="358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92440" y="914400"/>
            <a:ext cx="4093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7880" y="914400"/>
            <a:ext cx="5374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2600" y="914400"/>
            <a:ext cx="3409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42" idx="3"/>
            <a:endCxn id="76" idx="1"/>
          </p:cNvCxnSpPr>
          <p:nvPr/>
        </p:nvCxnSpPr>
        <p:spPr>
          <a:xfrm>
            <a:off x="2616480" y="1067760"/>
            <a:ext cx="36576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3"/>
            <a:endCxn id="77" idx="1"/>
          </p:cNvCxnSpPr>
          <p:nvPr/>
        </p:nvCxnSpPr>
        <p:spPr>
          <a:xfrm>
            <a:off x="3340800" y="1067760"/>
            <a:ext cx="2520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7" idx="3"/>
            <a:endCxn id="78" idx="1"/>
          </p:cNvCxnSpPr>
          <p:nvPr/>
        </p:nvCxnSpPr>
        <p:spPr>
          <a:xfrm>
            <a:off x="4001760" y="1067760"/>
            <a:ext cx="27648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8" idx="3"/>
            <a:endCxn id="79" idx="1"/>
          </p:cNvCxnSpPr>
          <p:nvPr/>
        </p:nvCxnSpPr>
        <p:spPr>
          <a:xfrm>
            <a:off x="4815360" y="1067760"/>
            <a:ext cx="147600" cy="36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2"/>
            <a:endCxn id="77" idx="2"/>
          </p:cNvCxnSpPr>
          <p:nvPr/>
        </p:nvCxnSpPr>
        <p:spPr>
          <a:xfrm rot="16200000">
            <a:off x="4464720" y="553320"/>
            <a:ext cx="360" cy="1336320"/>
          </a:xfrm>
          <a:prstGeom prst="bentConnector3">
            <a:avLst>
              <a:gd name="adj1" fmla="val 65700000"/>
            </a:avLst>
          </a:prstGeom>
          <a:ln w="19080">
            <a:solidFill>
              <a:srgbClr val="333399"/>
            </a:solidFill>
            <a:prstDash val="dash"/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435480" y="2057400"/>
            <a:ext cx="5266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wy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20560" y="2057400"/>
            <a:ext cx="53748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5640" y="2057400"/>
            <a:ext cx="3805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9520" y="2057400"/>
            <a:ext cx="4399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50" idx="3"/>
            <a:endCxn id="85" idx="1"/>
          </p:cNvCxnSpPr>
          <p:nvPr/>
        </p:nvCxnSpPr>
        <p:spPr>
          <a:xfrm flipV="1">
            <a:off x="2746080" y="2210760"/>
            <a:ext cx="689760" cy="6861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5" idx="3"/>
            <a:endCxn id="86" idx="1"/>
          </p:cNvCxnSpPr>
          <p:nvPr/>
        </p:nvCxnSpPr>
        <p:spPr>
          <a:xfrm>
            <a:off x="3962160" y="2210760"/>
            <a:ext cx="1587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7" idx="1"/>
          </p:cNvCxnSpPr>
          <p:nvPr/>
        </p:nvCxnSpPr>
        <p:spPr>
          <a:xfrm>
            <a:off x="4658040" y="2210760"/>
            <a:ext cx="147960" cy="3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7" idx="3"/>
            <a:endCxn id="88" idx="1"/>
          </p:cNvCxnSpPr>
          <p:nvPr/>
        </p:nvCxnSpPr>
        <p:spPr>
          <a:xfrm>
            <a:off x="5186160" y="2210760"/>
            <a:ext cx="153720" cy="360"/>
          </a:xfrm>
          <a:prstGeom prst="bentConnector2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666240" y="5638680"/>
            <a:ext cx="1123920" cy="307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avg grp mp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7" idx="3"/>
            <a:endCxn id="93" idx="1"/>
          </p:cNvCxnSpPr>
          <p:nvPr/>
        </p:nvCxnSpPr>
        <p:spPr>
          <a:xfrm flipV="1">
            <a:off x="2501280" y="5792040"/>
            <a:ext cx="1165320" cy="1219680"/>
          </a:xfrm>
          <a:prstGeom prst="straightConnector1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591720" y="7315200"/>
            <a:ext cx="4885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y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93000" y="7304040"/>
            <a:ext cx="439920" cy="3070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67" idx="3"/>
            <a:endCxn id="95" idx="1"/>
          </p:cNvCxnSpPr>
          <p:nvPr/>
        </p:nvCxnSpPr>
        <p:spPr>
          <a:xfrm>
            <a:off x="2501280" y="7011360"/>
            <a:ext cx="1090800" cy="45756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5" idx="3"/>
            <a:endCxn id="96" idx="1"/>
          </p:cNvCxnSpPr>
          <p:nvPr/>
        </p:nvCxnSpPr>
        <p:spPr>
          <a:xfrm flipV="1">
            <a:off x="4080240" y="7457400"/>
            <a:ext cx="213120" cy="11520"/>
          </a:xfrm>
          <a:prstGeom prst="straightConnector1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3668400" y="6248520"/>
            <a:ext cx="478080" cy="307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67" idx="3"/>
            <a:endCxn id="99" idx="1"/>
          </p:cNvCxnSpPr>
          <p:nvPr/>
        </p:nvCxnSpPr>
        <p:spPr>
          <a:xfrm flipV="1">
            <a:off x="2501280" y="6401880"/>
            <a:ext cx="1167480" cy="609840"/>
          </a:xfrm>
          <a:prstGeom prst="straightConnector1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2124000" y="6400800"/>
            <a:ext cx="3711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63" idx="2"/>
            <a:endCxn id="67" idx="0"/>
          </p:cNvCxnSpPr>
          <p:nvPr/>
        </p:nvCxnSpPr>
        <p:spPr>
          <a:xfrm flipH="1">
            <a:off x="2286000" y="6707880"/>
            <a:ext cx="23760" cy="15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748960" y="1828800"/>
            <a:ext cx="409320" cy="307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f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4" idx="3"/>
            <a:endCxn id="102" idx="1"/>
          </p:cNvCxnSpPr>
          <p:nvPr/>
        </p:nvCxnSpPr>
        <p:spPr>
          <a:xfrm>
            <a:off x="2557080" y="1982160"/>
            <a:ext cx="192240" cy="36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05440" y="3200400"/>
            <a:ext cx="42012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n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50" idx="3"/>
            <a:endCxn id="104" idx="1"/>
          </p:cNvCxnSpPr>
          <p:nvPr/>
        </p:nvCxnSpPr>
        <p:spPr>
          <a:xfrm>
            <a:off x="2746080" y="2896560"/>
            <a:ext cx="459720" cy="45756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342960" y="2754360"/>
            <a:ext cx="39852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50" idx="3"/>
            <a:endCxn id="106" idx="1"/>
          </p:cNvCxnSpPr>
          <p:nvPr/>
        </p:nvCxnSpPr>
        <p:spPr>
          <a:xfrm>
            <a:off x="2746080" y="2896560"/>
            <a:ext cx="597240" cy="11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119840" y="2590920"/>
            <a:ext cx="410760" cy="3070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nt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 flipV="1">
            <a:off x="3741480" y="2744280"/>
            <a:ext cx="378720" cy="16380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891960" y="3048120"/>
            <a:ext cx="537480" cy="3070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>
            <a:off x="3741480" y="2907720"/>
            <a:ext cx="150840" cy="294120"/>
          </a:xfrm>
          <a:prstGeom prst="straightConnector1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513440" y="3211560"/>
            <a:ext cx="400320" cy="307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51" idx="1"/>
            <a:endCxn id="112" idx="3"/>
          </p:cNvCxnSpPr>
          <p:nvPr/>
        </p:nvCxnSpPr>
        <p:spPr>
          <a:xfrm flipH="1">
            <a:off x="1913760" y="3353760"/>
            <a:ext cx="233640" cy="1152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596760" y="6781680"/>
            <a:ext cx="537480" cy="30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mx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67" idx="3"/>
            <a:endCxn id="114" idx="1"/>
          </p:cNvCxnSpPr>
          <p:nvPr/>
        </p:nvCxnSpPr>
        <p:spPr>
          <a:xfrm flipV="1">
            <a:off x="2501280" y="6935040"/>
            <a:ext cx="1095840" cy="7668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129120" y="1371600"/>
            <a:ext cx="380520" cy="30708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l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76" idx="2"/>
            <a:endCxn id="116" idx="0"/>
          </p:cNvCxnSpPr>
          <p:nvPr/>
        </p:nvCxnSpPr>
        <p:spPr>
          <a:xfrm>
            <a:off x="3161160" y="1221480"/>
            <a:ext cx="158400" cy="15048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070720" y="6858000"/>
            <a:ext cx="430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q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675-7C30-40E5-A933-3C8EB92299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9:28:06Z</dcterms:created>
  <dc:creator>LARSON2003</dc:creator>
  <dc:description/>
  <dc:language>en-US</dc:language>
  <cp:lastModifiedBy>LARSON2003</cp:lastModifiedBy>
  <dcterms:modified xsi:type="dcterms:W3CDTF">2005-11-22T18:11:40Z</dcterms:modified>
  <cp:revision>13</cp:revision>
  <dc:subject/>
  <dc:title>Flow chart for SAMMY</dc:title>
</cp:coreProperties>
</file>