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342CB-6845-4A01-9579-764FE1CA65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94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4080" y="1346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4080" y="34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5CD37-F3F0-48F4-915A-A0B065C3F4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94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4080" y="134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36760" y="134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4080" y="34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136760" y="34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6E4EC-C051-4F2B-BBA0-EA631AF45A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94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4080" y="134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82080" y="134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409720" y="134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4080" y="34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82080" y="34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409720" y="34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573D3-DA32-4F4B-BCAC-F5C45A266D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94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4080" y="1346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94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4080" y="1346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94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4080" y="1346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136760" y="1346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94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49400" y="-25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94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080" y="134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136760" y="1346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54080" y="34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94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4080" y="1346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83910-35F0-4C35-BFC3-5D188DDFD8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94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4080" y="1346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36760" y="134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136760" y="34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94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4080" y="134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36760" y="134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54080" y="34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94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4080" y="1346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54080" y="34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94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080" y="134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136760" y="134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080" y="34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136760" y="34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94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4080" y="134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782080" y="134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409720" y="134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54080" y="34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2782080" y="34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409720" y="34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94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4080" y="1346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CDCED-C4BD-43A5-893E-060C26FE39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94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4080" y="1346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136760" y="1346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CA1BD-A47D-4EB5-B54C-F07A38A8F5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94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708CC-ED10-4A80-B481-12CA28136E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9400" y="-25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C4FD4-28E8-4902-B6E3-CEAC0278B5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94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4080" y="134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136760" y="1346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4080" y="34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26742-0F9A-47C9-9668-429F4BD9E8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94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4080" y="1346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136760" y="134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36760" y="34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21510-D08E-4B7D-AB91-B9C43E4AA3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94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4080" y="134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136760" y="134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4080" y="34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76789-1849-4806-85CC-32305E7BA0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4080" y="1346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189720" indent="-189720">
              <a:spcBef>
                <a:spcPts val="2100"/>
              </a:spcBef>
              <a:spcAft>
                <a:spcPts val="349"/>
              </a:spcAft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2040" indent="-197280">
              <a:spcBef>
                <a:spcPts val="2100"/>
              </a:spcBef>
              <a:spcAft>
                <a:spcPts val="349"/>
              </a:spcAft>
              <a:buClr>
                <a:srgbClr val="00673e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02440" indent="-225360">
              <a:spcBef>
                <a:spcPts val="2100"/>
              </a:spcBef>
              <a:spcAft>
                <a:spcPts val="349"/>
              </a:spcAft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94760" indent="-197280">
              <a:spcBef>
                <a:spcPts val="2100"/>
              </a:spcBef>
              <a:spcAft>
                <a:spcPts val="349"/>
              </a:spcAft>
              <a:buClr>
                <a:srgbClr val="00673e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181800">
              <a:spcBef>
                <a:spcPts val="2100"/>
              </a:spcBef>
              <a:spcAft>
                <a:spcPts val="349"/>
              </a:spcAft>
              <a:buClr>
                <a:srgbClr val="00673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181800">
              <a:spcBef>
                <a:spcPts val="2100"/>
              </a:spcBef>
              <a:spcAft>
                <a:spcPts val="34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181800">
              <a:spcBef>
                <a:spcPts val="2100"/>
              </a:spcBef>
              <a:spcAft>
                <a:spcPts val="34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494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73e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124760" y="65721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73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5F4E-CA72-4B5F-8500-5B6DA901DF82}" type="slidenum">
              <a:rPr b="0" lang="en-US" sz="1000" spc="-1" strike="noStrike">
                <a:solidFill>
                  <a:srgbClr val="00673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680240" y="6224760"/>
            <a:ext cx="1238400" cy="349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73880" y="6132600"/>
            <a:ext cx="34221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73e"/>
                </a:solidFill>
                <a:latin typeface="Times New Roman"/>
              </a:rPr>
              <a:t>O</a:t>
            </a:r>
            <a:r>
              <a:rPr b="1" lang="en-US" sz="1300" spc="-1" strike="noStrike">
                <a:solidFill>
                  <a:srgbClr val="00673e"/>
                </a:solidFill>
                <a:latin typeface="Times New Roman"/>
              </a:rPr>
              <a:t>AK</a:t>
            </a:r>
            <a:r>
              <a:rPr b="1" lang="en-US" sz="1600" spc="-1" strike="noStrike">
                <a:solidFill>
                  <a:srgbClr val="00673e"/>
                </a:solidFill>
                <a:latin typeface="Times New Roman"/>
              </a:rPr>
              <a:t> R</a:t>
            </a:r>
            <a:r>
              <a:rPr b="1" lang="en-US" sz="1300" spc="-1" strike="noStrike">
                <a:solidFill>
                  <a:srgbClr val="00673e"/>
                </a:solidFill>
                <a:latin typeface="Times New Roman"/>
              </a:rPr>
              <a:t>IDGE</a:t>
            </a:r>
            <a:r>
              <a:rPr b="1" lang="en-US" sz="1600" spc="-1" strike="noStrike">
                <a:solidFill>
                  <a:srgbClr val="00673e"/>
                </a:solidFill>
                <a:latin typeface="Times New Roman"/>
              </a:rPr>
              <a:t> N</a:t>
            </a:r>
            <a:r>
              <a:rPr b="1" lang="en-US" sz="1300" spc="-1" strike="noStrike">
                <a:solidFill>
                  <a:srgbClr val="00673e"/>
                </a:solidFill>
                <a:latin typeface="Times New Roman"/>
              </a:rPr>
              <a:t>ATIONAL</a:t>
            </a:r>
            <a:r>
              <a:rPr b="1" lang="en-US" sz="1600" spc="-1" strike="noStrike">
                <a:solidFill>
                  <a:srgbClr val="00673e"/>
                </a:solidFill>
                <a:latin typeface="Times New Roman"/>
              </a:rPr>
              <a:t> L</a:t>
            </a:r>
            <a:r>
              <a:rPr b="1" lang="en-US" sz="1300" spc="-1" strike="noStrike">
                <a:solidFill>
                  <a:srgbClr val="00673e"/>
                </a:solidFill>
                <a:latin typeface="Times New Roman"/>
              </a:rPr>
              <a:t>ABORATO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73e"/>
                </a:solidFill>
                <a:latin typeface="Times New Roman"/>
              </a:rPr>
              <a:t>U. S. D</a:t>
            </a:r>
            <a:r>
              <a:rPr b="1" lang="en-US" sz="1200" spc="-1" strike="noStrike">
                <a:solidFill>
                  <a:srgbClr val="00673e"/>
                </a:solidFill>
                <a:latin typeface="Times New Roman"/>
              </a:rPr>
              <a:t>EPARTMENT</a:t>
            </a:r>
            <a:r>
              <a:rPr b="1" lang="en-US" sz="1400" spc="-1" strike="noStrike">
                <a:solidFill>
                  <a:srgbClr val="00673e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673e"/>
                </a:solidFill>
                <a:latin typeface="Times New Roman"/>
              </a:rPr>
              <a:t>OF</a:t>
            </a:r>
            <a:r>
              <a:rPr b="1" lang="en-US" sz="1400" spc="-1" strike="noStrike">
                <a:solidFill>
                  <a:srgbClr val="00673e"/>
                </a:solidFill>
                <a:latin typeface="Times New Roman"/>
              </a:rPr>
              <a:t> E</a:t>
            </a:r>
            <a:r>
              <a:rPr b="1" lang="en-US" sz="1200" spc="-1" strike="noStrike">
                <a:solidFill>
                  <a:srgbClr val="00673e"/>
                </a:solidFill>
                <a:latin typeface="Times New Roman"/>
              </a:rPr>
              <a:t>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5721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73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73e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85880" y="671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73e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95160" algn="ctr">
              <a:spcBef>
                <a:spcPts val="550"/>
              </a:spcBef>
              <a:spcAft>
                <a:spcPts val="275"/>
              </a:spcAft>
              <a:buClr>
                <a:srgbClr val="00673e"/>
              </a:buClr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81080" algn="ctr">
              <a:spcBef>
                <a:spcPts val="499"/>
              </a:spcBef>
              <a:spcAft>
                <a:spcPts val="249"/>
              </a:spcAft>
              <a:buClr>
                <a:srgbClr val="00673e"/>
              </a:buClr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3520" algn="ctr">
              <a:spcBef>
                <a:spcPts val="451"/>
              </a:spcBef>
              <a:spcAft>
                <a:spcPts val="224"/>
              </a:spcAft>
              <a:buClr>
                <a:srgbClr val="00673e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43352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43352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85880" y="671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73e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685880" y="2324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1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41240" y="3381480"/>
            <a:ext cx="3528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72080" y="321624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24800" y="3216240"/>
            <a:ext cx="13644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12080" y="3560760"/>
            <a:ext cx="118800" cy="11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58040" y="3560760"/>
            <a:ext cx="914400" cy="119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73880" y="3218040"/>
            <a:ext cx="896760" cy="896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320040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92360" y="3201840"/>
            <a:ext cx="897120" cy="897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508960" y="321624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508960" y="3216240"/>
            <a:ext cx="936720" cy="887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07960" y="3346560"/>
            <a:ext cx="914400" cy="365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3446640"/>
            <a:ext cx="914400" cy="365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24360" y="3395520"/>
            <a:ext cx="29952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3352680"/>
            <a:ext cx="0" cy="38124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3200400"/>
            <a:ext cx="0" cy="91440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677520" y="3200400"/>
            <a:ext cx="0" cy="91440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358128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982080" y="358128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3433B-9DAF-44F4-B0D0-740A13DE60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18:48:43Z</dcterms:created>
  <dc:creator>LARSON2003</dc:creator>
  <dc:description/>
  <dc:language>en-US</dc:language>
  <cp:lastModifiedBy>LARSON2003</cp:lastModifiedBy>
  <dcterms:modified xsi:type="dcterms:W3CDTF">2006-01-30T20:19:00Z</dcterms:modified>
  <cp:revision>2</cp:revision>
  <dc:subject/>
  <dc:title>Slide 1</dc:title>
</cp:coreProperties>
</file>