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F1043-3DA6-47DA-9569-F09CA78F7C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940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4080" y="1346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4080" y="3495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68FC3-4649-4BD1-8FD3-4A9D2B902D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940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4080" y="134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136760" y="134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4080" y="34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136760" y="34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DC3BB-4405-400D-A102-0F32115F81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940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4080" y="1346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82080" y="1346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409720" y="1346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4080" y="34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82080" y="34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409720" y="34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2BE56-B703-4BC8-AC96-DA2C747207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940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54080" y="1346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940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4080" y="1346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940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4080" y="13460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136760" y="13460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940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49400" y="-25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940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4080" y="134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136760" y="13460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54080" y="34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940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4080" y="1346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D08A9-7C1F-40C3-B689-21D38EB65E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940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4080" y="13460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36760" y="134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136760" y="34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940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4080" y="134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36760" y="134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54080" y="3495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940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4080" y="1346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54080" y="3495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940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4080" y="134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136760" y="134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4080" y="34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136760" y="34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940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4080" y="1346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782080" y="1346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409720" y="1346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54080" y="34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2782080" y="34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409720" y="34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940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4080" y="1346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ACCFD-FF88-492F-A624-06DD6CEC1C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940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4080" y="13460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136760" y="13460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E20AA-0065-407D-B193-BF78351F01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940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D2F9B-1564-4B40-9A62-71108D4734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9400" y="-25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C9709-224D-48BB-9D10-688FAB9D6C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940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4080" y="134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136760" y="13460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4080" y="34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96067-F9F5-4303-9D79-2504B58B9A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940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4080" y="13460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136760" y="134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136760" y="34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91701-C162-4DAA-84F5-2AA945FF95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940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4080" y="134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136760" y="134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4080" y="3495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3C8FE-ADC9-4802-9F9F-523BCF72D6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4080" y="1346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189720" indent="-189720">
              <a:spcBef>
                <a:spcPts val="2100"/>
              </a:spcBef>
              <a:spcAft>
                <a:spcPts val="349"/>
              </a:spcAft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2040" indent="-197280">
              <a:spcBef>
                <a:spcPts val="2100"/>
              </a:spcBef>
              <a:spcAft>
                <a:spcPts val="349"/>
              </a:spcAft>
              <a:buClr>
                <a:srgbClr val="00673e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02440" indent="-225360">
              <a:spcBef>
                <a:spcPts val="2100"/>
              </a:spcBef>
              <a:spcAft>
                <a:spcPts val="349"/>
              </a:spcAft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94760" indent="-197280">
              <a:spcBef>
                <a:spcPts val="2100"/>
              </a:spcBef>
              <a:spcAft>
                <a:spcPts val="349"/>
              </a:spcAft>
              <a:buClr>
                <a:srgbClr val="00673e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181800">
              <a:spcBef>
                <a:spcPts val="2100"/>
              </a:spcBef>
              <a:spcAft>
                <a:spcPts val="349"/>
              </a:spcAft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181800">
              <a:spcBef>
                <a:spcPts val="2100"/>
              </a:spcBef>
              <a:spcAft>
                <a:spcPts val="34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181800">
              <a:spcBef>
                <a:spcPts val="2100"/>
              </a:spcBef>
              <a:spcAft>
                <a:spcPts val="34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4940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73e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124760" y="65721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73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4DFB5-0B83-45A4-AD87-EA82A6778389}" type="slidenum">
              <a:rPr b="0" lang="en-US" sz="1000" spc="-1" strike="noStrike">
                <a:solidFill>
                  <a:srgbClr val="00673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7680240" y="6224760"/>
            <a:ext cx="1238400" cy="349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73880" y="6132600"/>
            <a:ext cx="34221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73e"/>
                </a:solidFill>
                <a:latin typeface="Times New Roman"/>
              </a:rPr>
              <a:t>O</a:t>
            </a:r>
            <a:r>
              <a:rPr b="1" lang="en-US" sz="1300" spc="-1" strike="noStrike">
                <a:solidFill>
                  <a:srgbClr val="00673e"/>
                </a:solidFill>
                <a:latin typeface="Times New Roman"/>
              </a:rPr>
              <a:t>AK</a:t>
            </a:r>
            <a:r>
              <a:rPr b="1" lang="en-US" sz="1600" spc="-1" strike="noStrike">
                <a:solidFill>
                  <a:srgbClr val="00673e"/>
                </a:solidFill>
                <a:latin typeface="Times New Roman"/>
              </a:rPr>
              <a:t> R</a:t>
            </a:r>
            <a:r>
              <a:rPr b="1" lang="en-US" sz="1300" spc="-1" strike="noStrike">
                <a:solidFill>
                  <a:srgbClr val="00673e"/>
                </a:solidFill>
                <a:latin typeface="Times New Roman"/>
              </a:rPr>
              <a:t>IDGE</a:t>
            </a:r>
            <a:r>
              <a:rPr b="1" lang="en-US" sz="1600" spc="-1" strike="noStrike">
                <a:solidFill>
                  <a:srgbClr val="00673e"/>
                </a:solidFill>
                <a:latin typeface="Times New Roman"/>
              </a:rPr>
              <a:t> N</a:t>
            </a:r>
            <a:r>
              <a:rPr b="1" lang="en-US" sz="1300" spc="-1" strike="noStrike">
                <a:solidFill>
                  <a:srgbClr val="00673e"/>
                </a:solidFill>
                <a:latin typeface="Times New Roman"/>
              </a:rPr>
              <a:t>ATIONAL</a:t>
            </a:r>
            <a:r>
              <a:rPr b="1" lang="en-US" sz="1600" spc="-1" strike="noStrike">
                <a:solidFill>
                  <a:srgbClr val="00673e"/>
                </a:solidFill>
                <a:latin typeface="Times New Roman"/>
              </a:rPr>
              <a:t> L</a:t>
            </a:r>
            <a:r>
              <a:rPr b="1" lang="en-US" sz="1300" spc="-1" strike="noStrike">
                <a:solidFill>
                  <a:srgbClr val="00673e"/>
                </a:solidFill>
                <a:latin typeface="Times New Roman"/>
              </a:rPr>
              <a:t>ABORATO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73e"/>
                </a:solidFill>
                <a:latin typeface="Times New Roman"/>
              </a:rPr>
              <a:t>U. S. D</a:t>
            </a:r>
            <a:r>
              <a:rPr b="1" lang="en-US" sz="1200" spc="-1" strike="noStrike">
                <a:solidFill>
                  <a:srgbClr val="00673e"/>
                </a:solidFill>
                <a:latin typeface="Times New Roman"/>
              </a:rPr>
              <a:t>EPARTMENT</a:t>
            </a:r>
            <a:r>
              <a:rPr b="1" lang="en-US" sz="1400" spc="-1" strike="noStrike">
                <a:solidFill>
                  <a:srgbClr val="00673e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673e"/>
                </a:solidFill>
                <a:latin typeface="Times New Roman"/>
              </a:rPr>
              <a:t>OF</a:t>
            </a:r>
            <a:r>
              <a:rPr b="1" lang="en-US" sz="1400" spc="-1" strike="noStrike">
                <a:solidFill>
                  <a:srgbClr val="00673e"/>
                </a:solidFill>
                <a:latin typeface="Times New Roman"/>
              </a:rPr>
              <a:t> E</a:t>
            </a:r>
            <a:r>
              <a:rPr b="1" lang="en-US" sz="1200" spc="-1" strike="noStrike">
                <a:solidFill>
                  <a:srgbClr val="00673e"/>
                </a:solidFill>
                <a:latin typeface="Times New Roman"/>
              </a:rPr>
              <a:t>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5721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73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73e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85880" y="671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73e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95160" algn="ctr">
              <a:spcBef>
                <a:spcPts val="550"/>
              </a:spcBef>
              <a:spcAft>
                <a:spcPts val="275"/>
              </a:spcAft>
              <a:buClr>
                <a:srgbClr val="00673e"/>
              </a:buClr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81080" algn="ctr">
              <a:spcBef>
                <a:spcPts val="499"/>
              </a:spcBef>
              <a:spcAft>
                <a:spcPts val="249"/>
              </a:spcAft>
              <a:buClr>
                <a:srgbClr val="00673e"/>
              </a:buClr>
              <a:buFont typeface="Symbol" charset="2"/>
              <a:buChar char="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3520" algn="ctr">
              <a:spcBef>
                <a:spcPts val="451"/>
              </a:spcBef>
              <a:spcAft>
                <a:spcPts val="224"/>
              </a:spcAft>
              <a:buClr>
                <a:srgbClr val="00673e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43352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43352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85880" y="671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685880" y="2324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41240" y="3381480"/>
            <a:ext cx="3528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572080" y="321624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724800" y="3216240"/>
            <a:ext cx="136440" cy="914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12080" y="3560760"/>
            <a:ext cx="118800" cy="11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58040" y="3560760"/>
            <a:ext cx="914400" cy="119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573880" y="3218040"/>
            <a:ext cx="896760" cy="896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90920" y="320040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92360" y="3201840"/>
            <a:ext cx="897120" cy="897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508960" y="321624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508960" y="3216240"/>
            <a:ext cx="936720" cy="887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07960" y="3346560"/>
            <a:ext cx="914400" cy="3650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19720" y="3446640"/>
            <a:ext cx="914400" cy="3650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24360" y="3395520"/>
            <a:ext cx="29952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4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3352680"/>
            <a:ext cx="0" cy="38124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3200400"/>
            <a:ext cx="0" cy="91440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677520" y="3200400"/>
            <a:ext cx="0" cy="91440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358128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982080" y="358128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54648-5D42-4E46-8D9C-E7E723769CC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18:48:43Z</dcterms:created>
  <dc:creator>LARSON2003</dc:creator>
  <dc:description/>
  <dc:language>en-US</dc:language>
  <cp:lastModifiedBy>LARSON2003</cp:lastModifiedBy>
  <dcterms:modified xsi:type="dcterms:W3CDTF">2006-01-30T20:19:00Z</dcterms:modified>
  <cp:revision>2</cp:revision>
  <dc:subject/>
  <dc:title>Slide 1</dc:title>
</cp:coreProperties>
</file>